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65E0-1B2F-4E83-9A33-C04916A42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88A3-0568-4FCC-99E3-D6F3052A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B5B7-9C0D-485E-AE3B-75D5A472E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68F8-2FD8-48D9-AE5A-BED05E67E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AD68-884A-4E11-8626-59FB1572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E07B-316D-495B-88FD-DC8502B2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AAC1-684E-4994-BD71-E30CC37E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BC79-E4C4-4B9B-BF42-A03F2113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CFD1-AC48-49A7-B224-F940F61B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B576-93FF-49A8-ABD3-92597258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872F-FA1E-42B6-852C-318B5C51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9F02-E24B-40D1-B758-E5D26E92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17E4-3C6F-4E3B-8C81-9B520FA84E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414360" y="762120"/>
            <a:ext cx="824220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ереживая стыд, человек опускает или отворачивает голову, прячет взгляд, прикрывает глаза и заливается стыдливым румянце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лишком откровенные, слишком </a:t>
            </a:r>
            <a:r>
              <a:rPr b="0" lang="ru-RU" sz="3600" spc="-1" strike="noStrike">
                <a:solidFill>
                  <a:srgbClr val="a9432b"/>
                </a:solidFill>
                <a:latin typeface="Times New Roman"/>
              </a:rPr>
              <a:t>интенсивны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и слишком </a:t>
            </a:r>
            <a:r>
              <a:rPr b="0" lang="ru-RU" sz="3600" spc="-1" strike="noStrike">
                <a:solidFill>
                  <a:srgbClr val="a9432b"/>
                </a:solidFill>
                <a:latin typeface="Times New Roman"/>
              </a:rPr>
              <a:t>часты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a9432b"/>
                </a:solidFill>
                <a:latin typeface="Times New Roman"/>
              </a:rPr>
              <a:t>проявления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стыда свидетельствуют о </a:t>
            </a:r>
            <a:r>
              <a:rPr b="0" lang="ru-RU" sz="3600" spc="-1" strike="noStrike">
                <a:solidFill>
                  <a:srgbClr val="a9432b"/>
                </a:solidFill>
                <a:latin typeface="Times New Roman"/>
              </a:rPr>
              <a:t>социальном неблагополучи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индивид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ыдящийся человек чувствует свою общую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есостоятельность, некомпетентн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н забывает слова, делает неверные движения, нередко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заикаетс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становится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еуклюжи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страшно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гримаснича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71680" y="1499760"/>
            <a:ext cx="81151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ловек кажется себе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маленьким, беспомощным, скованным, эмоционально расстроенным, глупым, никуда не годным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т. д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ыд сопровождается временной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еспособностью мыслить логично и эффективн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а нередко и ощущением неудачи, поражени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стыженный человек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е в состоянии выразить словам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ои пережив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живание стыда возможно лишь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а фоне эмоциональной связ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другим человеком, причем с таким, чье мнение и чьи чувства имеют особую цен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особы избежать стыд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риц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авл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моутвержд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живание стыда может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ста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причин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ереживани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других эмоц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наоборот -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пережива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екоторых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эмоций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жет послужить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ричиной стыд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9432b"/>
                </a:solidFill>
                <a:latin typeface="Times New Roman"/>
              </a:rPr>
              <a:t>Ви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одна из базовых эмоций. Связана с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есоответствием ожиданиям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руги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Чем ближ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ам человек, перед которым вы провинились,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тем сильне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аше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пережива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и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Мими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сопровождающая переживание вины,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толь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выразитель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ожно по одному внешнему виду человека определить, чувствует он за собой вину или не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7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посылки развития эмоции вин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7520" indent="-51444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ятие общих моральных ценносте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7520" indent="-51444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рнализация этих ценносте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7520" indent="-51444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особность к самокрити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7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рмин «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эмпат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» введен в психологию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Э.Титченер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обобщившим развивавшиеся в философской традиции идеи о симпатии с теориями вчувствования Э.Клиффорда и Т.Липпс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моция вины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связа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 осознанием факта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проступка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ли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предательств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обственных взглядов и убежден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Также с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безответственным поступк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чиной могут стать поступки, которые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ротивореча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моральным, этическим или религиозным норма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9432b"/>
                </a:solidFill>
                <a:latin typeface="Times New Roman"/>
              </a:rPr>
              <a:t>Функ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эмоции вины заключается в том, что она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стимулиру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человека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исправить ситуаци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восстановить нормальный ход вещ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учший способ противостоять переживанию вины - жить в ладу со своей совесть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на играет ключевую роль в процессе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развития личной и социальной ответственн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в процессе становления совест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переживания вины характерны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высокая степень напряже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умеренная импульсивность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снижение уверенн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 себ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142640" y="1856880"/>
            <a:ext cx="75438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Эмпат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от англ. вчувствование) – специфическая система отражения партнеров по взаимодействию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психологической литературе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эмпат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трактуется как способность входить в состояния другого, как </a:t>
            </a:r>
            <a:r>
              <a:rPr b="0" lang="ru-RU" sz="2800" spc="-1" strike="noStrike" u="sng">
                <a:solidFill>
                  <a:srgbClr val="a9432b"/>
                </a:solidFill>
                <a:uFillTx/>
                <a:latin typeface="Times New Roman"/>
              </a:rPr>
              <a:t>сопереживание и сочувствие</a:t>
            </a:r>
            <a:r>
              <a:rPr b="0" lang="ru-RU" sz="2800" spc="-1" strike="noStrike">
                <a:solidFill>
                  <a:srgbClr val="a9432b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снов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эмпатии составляет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эмоциональная отзывчивость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и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интуи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но при этом значительную роль играет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разу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рациональное восприятие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ушевленных объект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еобходим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 эмпатии возникает в тех случаях, когда надо выявить,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понять, предвосхитить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дивидуальные особенности другого и затем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воздействова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 него в нужном направлен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71360" y="1571760"/>
            <a:ext cx="7615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Различают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a9432b"/>
                </a:solidFill>
                <a:latin typeface="Times New Roman"/>
              </a:rPr>
              <a:t>эмоциональную эмпатию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, основанную на механизмах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проек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и подражания реакциям другого человека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a9432b"/>
                </a:solidFill>
                <a:latin typeface="Times New Roman"/>
              </a:rPr>
              <a:t>когнитивную эмпатию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, базирующуюся на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интеллектуальных процессах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(сравнение, аналогия и т. п.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a9432b"/>
                </a:solidFill>
                <a:latin typeface="Times New Roman"/>
              </a:rPr>
              <a:t>предикативную эмпатию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, проявляющуюся как способность человека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предсказывать реакции другого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 конкретных ситуациях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28800" y="1856880"/>
            <a:ext cx="77580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стичь причины и следствия самопроявлений другого означает понять, почему, когда, для чего, с кем (чем) он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делает, говорит, думает, воспринимает, запоминает, вспоминает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очет подумать, сказать, сделать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являет свои интересы, потребности, способ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142640" y="1856880"/>
            <a:ext cx="75438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прогнозировать поведение другого означает понять, как, когда, почему, с какой целью он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делает, скажет, подумает по данному поводу; сможет реализовать свои мотивы, желания, потребност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пустит или не допустит определенные ошиб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9432b"/>
                </a:solidFill>
                <a:latin typeface="Times New Roman"/>
              </a:rPr>
              <a:t>Стыд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— отрицательно окрашенное чувство, объектом которого является какой-либо поступок или качество субъект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ыд связан с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ощущением социальной неприемлемост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го, за что стыдн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13T10:33:18Z</dcterms:modified>
  <cp:revision>10</cp:revision>
  <dc:subject/>
  <dc:title>Эмоции эмпатии, стыда и вины как эмоции лич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c0d0000000000010250600207f5200358026400</vt:lpwstr>
  </property>
</Properties>
</file>